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DF87B-A37C-44B3-8047-3F5C7ED05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4EE84-F090-4C36-B421-0055905ED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2C733-3A66-4913-A170-1164CD73D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07273-2343-4DF0-8BC9-CD08152C6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7D080-6114-4705-B7AE-318914710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6891B-ECC3-416C-8DAE-EA252DBF3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A4E6D-6AB3-41FE-8168-626BE6433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A1D20-7FE3-4400-882B-57ED33A17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CA7AE-8588-423B-9052-BD4EED9DA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05CAC-781E-42A4-964C-F8E6D0E8A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93587-00F8-459F-AFAF-9ECD4B5AA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AD68B-973F-4028-B2F1-D3396FECA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6BC17-7E26-4D9E-B64B-D4EB65A09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54A17-20F4-4DEF-897B-E00A1BE69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B415A-442E-4B86-ABD1-5773C57FD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9E92F-86B6-40C1-BD81-B986919D6E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5C960-0927-413E-A667-BA1398832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AF2EC-E8CF-4A8B-9A85-165FD7479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55B4F-7EE7-4EE1-9C35-90AA24FA9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3E29F-2546-4BD7-9338-1BAF00F5C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FEA2-60BD-4319-94DA-7672B5850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7023C-2DCA-44F9-BB0C-E3D8EC3FD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13488-C40D-403D-83EB-A2B81D16C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30DDE-AC01-4541-8D51-7B4D79588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CD28-FDF7-47AE-9696-86DE92EC5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656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4E5B-D571-4375-A1F4-F9A48F11D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 of View</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oint of view in </a:t>
            </a:r>
            <a:r>
              <a:rPr b="0" i="1" lang="en-US" sz="3200" spc="-1" strike="noStrike">
                <a:solidFill>
                  <a:srgbClr val="000000"/>
                </a:solidFill>
                <a:latin typeface="Arial"/>
              </a:rPr>
              <a:t>The Giv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point of view?</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SvtyTwo ITC TT-BookIta"/>
              </a:rPr>
              <a:t>I was sure there was someone following me. I walked faster, but the sense of foreboding closed in around me like a cold hand clenching around my spine. When I turned to look behind me, the street was desert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Person</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and “w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only the thoughts of the nar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point of view?</a:t>
            </a: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SvtyTwo ITC TT-BookIta"/>
              </a:rPr>
              <a:t>You are walking down the street. You know there is someone behind you; you feel the cold hand of fear grip your spine. When you turn to look behind you, the street is dese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Person</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you”</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often used in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n a lot in advertisements or commerci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nyone think of a recent commercial that uses 2nd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point of view?</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SvtyTwo ITC TT-BookIta"/>
              </a:rPr>
              <a:t>She was sure there was someone following her. She walked faster, but the sense of foreboding closed in around her like a cold hand clenching around her spine. As Adam snuck up behind her, he felt the excitement of the surprise build in the pit of his stomach.  She paused.  When she turned to look behind her, the street was deserted.  Adam peered from behind the wall, relieved he had avoided her discovering him at the last seco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Person:</a:t>
            </a:r>
            <a:br>
              <a:rPr sz="4400"/>
            </a:br>
            <a:r>
              <a:rPr b="0" lang="en-US" sz="4400" spc="-1" strike="noStrike">
                <a:solidFill>
                  <a:srgbClr val="000000"/>
                </a:solidFill>
                <a:latin typeface="Arial"/>
              </a:rPr>
              <a:t>Omniscient</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e/she” “his/her” “they” “th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niscient means “all kn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God, for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e many or all of the characters thoughts and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point of view?</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SvtyTwo ITC TT-BookIta"/>
              </a:rPr>
              <a:t>She was sure there was someone following her. She walked faster, but the sense of foreboding closed in around her like a cold hand clenching around her spine. When she turned to look behind her, the street was deser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Third Person:</a:t>
            </a:r>
            <a:br>
              <a:rPr sz="4500"/>
            </a:br>
            <a:r>
              <a:rPr b="0" lang="en-US" sz="4500" spc="-1" strike="noStrike">
                <a:solidFill>
                  <a:srgbClr val="000000"/>
                </a:solidFill>
                <a:latin typeface="Arial"/>
              </a:rPr>
              <a:t> Limited Omniscient</a:t>
            </a:r>
            <a:endParaRPr b="0" lang="en-US" sz="45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e/she” “his/her” “they” “th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rrator outside the story is spe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ells the thoughts and views from one main character’s persp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point of view in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6:09:22Z</dcterms:created>
  <dc:creator>Andra Dindzans</dc:creator>
  <dc:description/>
  <dc:language>en-US</dc:language>
  <cp:lastModifiedBy>Andra Dindzans</cp:lastModifiedBy>
  <dcterms:modified xsi:type="dcterms:W3CDTF">2007-06-28T16:24:16Z</dcterms:modified>
  <cp:revision>2</cp:revision>
  <dc:subject/>
  <dc:title>Point of View</dc:title>
</cp:coreProperties>
</file>